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C86-DB95-4712-9736-604547B0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0ED-CC62-47E4-84BA-F91DE15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40F-806C-4522-A719-0D7EFA5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B1E-ECB2-453C-AC72-8AA5FEB1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5F16-66B1-48EE-A6EA-955829F3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AB6F-0746-430A-9635-ED1A7237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2CD3-42E5-4052-AB48-4085CD1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58C5-CAB8-4C80-A77E-803CF18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522C-3AB9-4315-85CC-50972DC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A0D6-EDA1-4010-AB57-03F3040A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3500-C944-4115-A19F-5E84671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E61-BA7F-43D6-87DA-0DDBF67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829-ED6B-4996-9BB9-BCE9267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311-DF49-461C-A3AB-7535453D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DB08-971C-4294-8869-5798788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B6D-CEE3-423E-B5DB-576AEEBA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0C37-1E91-4D51-A447-DE892A49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1EF-E759-4404-8DE8-F5F8F937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1CF-4E83-4202-9624-361596EF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56B-2053-4D52-997C-B283B42D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107-4099-4115-9627-C441C9DF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67F-FECC-4F6F-BFAC-BB89300E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4BD-8BA2-4E34-84ED-C2BA456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428-CFC4-47E1-92DF-F8D5422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23EA-FD66-4EA3-805C-BEA504EC90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A5C1-FBCF-409C-A44D-6C9D2E08EE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FF283733-D8CB-4A67-965B-664485FF6E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000000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348BF7D6-BE3C-455A-BEBA-FB91751A0C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92EC00E1-C7E2-4946-8446-3F8E46B6EB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D419C71F-022B-46CD-ACAA-0FC16BB0EA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655FF51D-E3DE-48CD-9AB4-53B9A50A81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970112DB-6AF5-47B3-AEF6-83FC3AED27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33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2E907E8F-E02A-4CDE-9FC2-583815F7C3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fld id="{39FDC1A8-4231-4B02-B1E1-3D243C461A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9-07-10T19:28:04Z</dcterms:modified>
  <cp:revision>56</cp:revision>
  <dc:subject/>
  <dc:title>Slide 1</dc:title>
</cp:coreProperties>
</file>